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16.png" ContentType="image/png"/>
  <Override PartName="/ppt/media/image15.jpeg" ContentType="image/jpeg"/>
  <Override PartName="/ppt/media/image1.jpeg" ContentType="image/jpeg"/>
  <Override PartName="/ppt/media/image5.png" ContentType="image/png"/>
  <Override PartName="/ppt/media/image10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14.jpeg" ContentType="image/jpeg"/>
  <Override PartName="/ppt/media/image8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DAF9-955E-4636-AF36-2D916184D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28BC-F74A-42CA-A64E-3EE31190D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A9D5-16ED-4998-8C81-265752509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77B1-7639-4307-AFA9-51A367D90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19F03-D3B8-426A-8102-3B1FA2C6A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1F0C8-F2AD-4450-A5E2-9E24CCAFF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C6968-061E-4B63-8986-F6C10F0FD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80FDF-7170-463B-9B3A-3C47C809F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DAD8-343D-45BB-B785-2DEDBED3C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3F51D-50FF-4C21-8F9D-70FC8810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C31CC-CF25-4F76-94DA-AC985E8BF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1040-B6D0-4DCA-B0D2-D4564AFC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EEEB2-A9F2-418F-B367-84A1D3FF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B8AF4-DB76-4C4F-9E6C-D85E80272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B817-2329-430D-8EEC-B753F61B9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4ED6F-F63B-4AEB-86B9-4E0B3316C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32D3C-D151-40C5-8115-687D5AAB7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38C9CD-B3BF-4BE7-AA05-91B448399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32152-E1EE-4F5E-8AA6-E8C17DF17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47B542-3AF8-4799-A105-DFE5AB713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894D92-5E0B-4E4C-99A8-2B3D9C00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F7BA58-67FF-4A51-8F47-64C29503E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F7B8-AE91-461A-B79B-455C986E1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E87359-8E6B-4F7C-8FF8-B7AC9E9E0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BC6C8A-B98B-4058-A9AC-8CD0931A0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60B36-960F-4BAA-A864-92832E78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89DC10-3C23-47D4-884F-6DF8DB95C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199A0-C60F-454C-9762-BBA18C3F5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E32352-649F-4FF8-B3E8-20EC3768C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F7E0D4-15CA-4032-A175-DF8040668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252208-23C9-473E-8DEB-8E73D16DF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F1FAAF-F9ED-42A4-865B-2BD3E6361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DA64C-DA75-4061-8BCD-1FA6E8403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DA8-5C60-4BCC-9E3A-8CF1F312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34D2F-F198-4561-A436-7B844785F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A8E6EC-9A17-4786-A947-CFD1EC6AC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859533-58E9-4B88-A57C-F6833F780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76982D-7730-48F6-A174-5D0858591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A11CA-840B-48E6-AC95-8FA0F6F1C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18A8F1-E1DA-4FDF-BE95-0DDC13832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EDF8C-86CD-434E-B1BC-0970CB610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4C4161-2279-44F2-859F-5947438C5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EA9A7-8885-43D7-9C7E-643568607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D1A6-F586-4130-A57A-ECDA1AF8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9A54-F078-4EC3-BBF3-F413D57A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7D0D-BBFB-4EF0-ABEA-13A553730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921D6-C1FD-413B-B277-74A3EAD9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45A97-F61E-427B-8A4A-5F3F34401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F7F0A-2950-45D0-B60F-3E25F62AA002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CC44C-50E4-48B8-B59A-A5BD99F701B0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F4CD2-E439-4EA1-9429-81D2DB57EE68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122E-3DD7-41E3-AC68-5FEBAF4B73C6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308800" cy="190188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97" name="Picture 4" descr="ketchup2.jpg"/>
          <p:cNvPicPr/>
          <p:nvPr/>
        </p:nvPicPr>
        <p:blipFill>
          <a:blip r:embed="rId2"/>
          <a:stretch/>
        </p:blipFill>
        <p:spPr>
          <a:xfrm>
            <a:off x="533520" y="1523880"/>
            <a:ext cx="200016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2" descr="river.jpg"/>
          <p:cNvPicPr/>
          <p:nvPr/>
        </p:nvPicPr>
        <p:blipFill>
          <a:blip r:embed="rId2"/>
          <a:stretch/>
        </p:blipFill>
        <p:spPr>
          <a:xfrm>
            <a:off x="3672000" y="2162160"/>
            <a:ext cx="31176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2" descr="omm6.jpg"/>
          <p:cNvPicPr/>
          <p:nvPr/>
        </p:nvPicPr>
        <p:blipFill>
          <a:blip r:embed="rId2"/>
          <a:stretch/>
        </p:blipFill>
        <p:spPr>
          <a:xfrm>
            <a:off x="3352680" y="2514600"/>
            <a:ext cx="4754520" cy="35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6840" y="304920"/>
            <a:ext cx="22129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Character traits of Lennie-he is slow and needs Georg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Actions-He acts like a child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Dialogue-”I tried not to forget. Honest to God I did, George.”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Physical description-very tall and larg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Idiosyncrasies-likes ketchup and petting dead animal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Objects/Possessions-dead mouse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Reactions-threatens to leave George and go live in the mountain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Thoughts-dead mice, ketchup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nstantia"/>
              </a:rPr>
              <a:t>Background Information-traveling to his new job, is homeless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Title 1" descr=""/>
          <p:cNvPicPr/>
          <p:nvPr/>
        </p:nvPicPr>
        <p:blipFill>
          <a:blip r:embed="rId1"/>
          <a:stretch/>
        </p:blipFill>
        <p:spPr>
          <a:xfrm>
            <a:off x="73080" y="701640"/>
            <a:ext cx="8699400" cy="1150920"/>
          </a:xfrm>
          <a:prstGeom prst="rect">
            <a:avLst/>
          </a:prstGeom>
          <a:ln w="0">
            <a:noFill/>
          </a:ln>
        </p:spPr>
      </p:pic>
      <p:sp>
        <p:nvSpPr>
          <p:cNvPr id="205" name="TextBox 2"/>
          <p:cNvSpPr/>
          <p:nvPr/>
        </p:nvSpPr>
        <p:spPr>
          <a:xfrm>
            <a:off x="838080" y="220968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wants to live on a farm with a lot of bunn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Placeholder 6" descr="bunnies.bmp"/>
          <p:cNvPicPr/>
          <p:nvPr/>
        </p:nvPicPr>
        <p:blipFill>
          <a:blip r:embed="rId2"/>
          <a:srcRect l="16263" t="0" r="16263" b="0"/>
          <a:stretch/>
        </p:blipFill>
        <p:spPr>
          <a:xfrm rot="420000">
            <a:off x="4509720" y="3324240"/>
            <a:ext cx="345924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2365200" cy="9903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4617b"/>
                </a:solidFill>
                <a:latin typeface="Calibri"/>
              </a:rPr>
              <a:t>Character traits of George-father like to Lennie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6019920" cy="35607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Actions-he tells Lennie what to do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Dialogue-”Lennie, for God’sakes don’t drink so much.”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Physical description-small and quick, strong features and restless eyes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Idiosyncrasies- wants to buy a farm for Lennie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Objects/Possessions-bindle stick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Reactions-he ususally gets mad and lose patience with Lennie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Thoughts-thinks about him being by himself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nstantia"/>
              </a:rPr>
              <a:t>Background Information-traveling and is homeless</a:t>
            </a:r>
            <a:endParaRPr b="0" lang="en-US" sz="13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Placeholder 4" descr="father.jpg"/>
          <p:cNvPicPr/>
          <p:nvPr/>
        </p:nvPicPr>
        <p:blipFill>
          <a:blip r:embed="rId1"/>
          <a:srcRect l="0" t="8010" r="0" b="8010"/>
          <a:stretch/>
        </p:blipFill>
        <p:spPr>
          <a:xfrm rot="420000">
            <a:off x="5968800" y="3589200"/>
            <a:ext cx="1989000" cy="1694160"/>
          </a:xfrm>
          <a:prstGeom prst="rect">
            <a:avLst/>
          </a:prstGeom>
          <a:ln cap="rnd" w="2880">
            <a:solidFill>
              <a:srgbClr val="c0c0c0"/>
            </a:solidFill>
            <a:round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George's Dream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He wants to buy a farm for Lennie and be his own boss and own his own farm to be his own bos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onflict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 vs Ma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Man vs Natur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4" name="Picture 3" descr="man vs man.jpg"/>
          <p:cNvPicPr/>
          <p:nvPr/>
        </p:nvPicPr>
        <p:blipFill>
          <a:blip r:embed="rId1"/>
          <a:stretch/>
        </p:blipFill>
        <p:spPr>
          <a:xfrm>
            <a:off x="3789360" y="3124080"/>
            <a:ext cx="399240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Title 1" descr=""/>
          <p:cNvPicPr/>
          <p:nvPr/>
        </p:nvPicPr>
        <p:blipFill>
          <a:blip r:embed="rId1"/>
          <a:stretch/>
        </p:blipFill>
        <p:spPr>
          <a:xfrm>
            <a:off x="262080" y="1500120"/>
            <a:ext cx="8662680" cy="155412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2" descr="omm20.jpg"/>
          <p:cNvPicPr/>
          <p:nvPr/>
        </p:nvPicPr>
        <p:blipFill>
          <a:blip r:embed="rId2"/>
          <a:stretch/>
        </p:blipFill>
        <p:spPr>
          <a:xfrm>
            <a:off x="3429000" y="3124080"/>
            <a:ext cx="262260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5T01:35:55Z</dcterms:created>
  <dc:creator>Teacher</dc:creator>
  <dc:description/>
  <dc:language>en-US</dc:language>
  <cp:lastModifiedBy>Teacher</cp:lastModifiedBy>
  <dcterms:modified xsi:type="dcterms:W3CDTF">2013-04-26T17:40:00Z</dcterms:modified>
  <cp:revision>4</cp:revision>
  <dc:subject/>
  <dc:title>Chapter 1: Ketchup</dc:title>
</cp:coreProperties>
</file>